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5DD-3625-4683-BD1E-3139F6AE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94E-35F0-4468-9910-C515AB39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1261-FC92-4CE6-A871-C5652728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6C8C-E2E3-4A65-9AA2-F504CF57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820-D37B-44E1-BA92-1A64AB3F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23A-DEC9-4ED5-9AE3-52091EB8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ED6-B5C5-483F-A7DE-29B8CECB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452E-508A-40D0-927B-6FB49BD1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95B7-B4F2-4AC0-A9E9-348E2005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D660-9223-4199-8D03-33EDC476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D165-2DB5-4B55-8EFC-B7EA97C5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FBF-744E-4F77-BC8D-7B609F16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3C5B-E04C-4712-A69C-59473EE56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689120"/>
            <a:ext cx="7956720" cy="5168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7956720" y="3860640"/>
            <a:ext cx="1187280" cy="1376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7956720" y="5229360"/>
            <a:ext cx="1187280" cy="765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7956720" y="2565360"/>
            <a:ext cx="1187280" cy="1325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956720" y="1700280"/>
            <a:ext cx="1187280" cy="93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0"/>
            <a:ext cx="8569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LAN DE REFORZAMIENTO DE I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BOISSIERI HENRIQ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516640"/>
            <a:ext cx="352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LARA BODAS SÁN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ASTER R. ECOSIS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STAUR. DE POBL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RIS BOISSI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24465" t="37362" r="27265" b="15802"/>
          <a:stretch/>
        </p:blipFill>
        <p:spPr>
          <a:xfrm>
            <a:off x="4284720" y="1844640"/>
            <a:ext cx="4859280" cy="2637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348000" y="3933720"/>
            <a:ext cx="4392720" cy="2924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27530" t="35335" r="57000" b="19291"/>
          <a:stretch/>
        </p:blipFill>
        <p:spPr>
          <a:xfrm>
            <a:off x="0" y="1413000"/>
            <a:ext cx="3340080" cy="5445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78380" t="34006" r="4308" b="43538"/>
          <a:stretch/>
        </p:blipFill>
        <p:spPr>
          <a:xfrm>
            <a:off x="6651720" y="0"/>
            <a:ext cx="2492280" cy="1809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724880" y="5805360"/>
            <a:ext cx="1419120" cy="1052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3597" t="0" r="27552" b="23300"/>
          <a:stretch/>
        </p:blipFill>
        <p:spPr>
          <a:xfrm>
            <a:off x="5435640" y="3068640"/>
            <a:ext cx="3714840" cy="378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23597" t="0" r="27552" b="23300"/>
          <a:stretch/>
        </p:blipFill>
        <p:spPr>
          <a:xfrm>
            <a:off x="0" y="3068640"/>
            <a:ext cx="3714840" cy="3789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rcRect l="23597" t="0" r="27552" b="23300"/>
          <a:stretch/>
        </p:blipFill>
        <p:spPr>
          <a:xfrm>
            <a:off x="2627280" y="3716280"/>
            <a:ext cx="3079800" cy="3141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36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FINICIÓN DEL PROBL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rcRect l="2186" t="36102" r="0" b="44355"/>
          <a:stretch/>
        </p:blipFill>
        <p:spPr>
          <a:xfrm>
            <a:off x="179280" y="981000"/>
            <a:ext cx="8964720" cy="2735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3789360"/>
            <a:ext cx="8640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LECCION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mbio en el uso del suelo: ABANDONO PASTO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CEN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LANTA RECALCITRANTE EN CUANTO A MULTI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4221000"/>
            <a:ext cx="287280" cy="336600"/>
          </a:xfrm>
          <a:custGeom>
            <a:avLst/>
            <a:gdLst/>
            <a:ahLst/>
            <a:rect l="l" t="t" r="r" b="b"/>
            <a:pathLst>
              <a:path w="227" h="393">
                <a:moveTo>
                  <a:pt x="0" y="182"/>
                </a:moveTo>
                <a:cubicBezTo>
                  <a:pt x="26" y="287"/>
                  <a:pt x="53" y="393"/>
                  <a:pt x="91" y="363"/>
                </a:cubicBezTo>
                <a:cubicBezTo>
                  <a:pt x="129" y="333"/>
                  <a:pt x="204" y="53"/>
                  <a:pt x="227" y="0"/>
                </a:cubicBezTo>
              </a:path>
            </a:pathLst>
          </a:custGeom>
          <a:noFill/>
          <a:ln w="507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28000" y="5229360"/>
            <a:ext cx="289080" cy="336240"/>
          </a:xfrm>
          <a:custGeom>
            <a:avLst/>
            <a:gdLst/>
            <a:ahLst/>
            <a:rect l="l" t="t" r="r" b="b"/>
            <a:pathLst>
              <a:path w="227" h="393">
                <a:moveTo>
                  <a:pt x="0" y="182"/>
                </a:moveTo>
                <a:cubicBezTo>
                  <a:pt x="26" y="287"/>
                  <a:pt x="53" y="393"/>
                  <a:pt x="91" y="363"/>
                </a:cubicBezTo>
                <a:cubicBezTo>
                  <a:pt x="129" y="333"/>
                  <a:pt x="204" y="53"/>
                  <a:pt x="227" y="0"/>
                </a:cubicBezTo>
              </a:path>
            </a:pathLst>
          </a:custGeom>
          <a:noFill/>
          <a:ln w="507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944640"/>
            <a:ext cx="9144000" cy="5940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ASES DEL PLAN DE RESTAU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81000"/>
            <a:ext cx="8028000" cy="459720"/>
          </a:xfrm>
          <a:prstGeom prst="rect">
            <a:avLst/>
          </a:prstGeom>
          <a:gradFill rotWithShape="0">
            <a:gsLst>
              <a:gs pos="0">
                <a:srgbClr val="87a2a4"/>
              </a:gs>
              <a:gs pos="50000">
                <a:srgbClr val="bbe0e3"/>
              </a:gs>
              <a:gs pos="100000">
                <a:srgbClr val="87a2a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se 1: Reforz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773360"/>
            <a:ext cx="7632720" cy="825480"/>
          </a:xfrm>
          <a:prstGeom prst="rect">
            <a:avLst/>
          </a:prstGeom>
          <a:gradFill rotWithShape="0">
            <a:gsLst>
              <a:gs pos="0">
                <a:srgbClr val="a5c6c9"/>
              </a:gs>
              <a:gs pos="50000">
                <a:srgbClr val="bbe0e3"/>
              </a:gs>
              <a:gs pos="100000">
                <a:srgbClr val="a5c6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se 2: Investigación sobre las causas que dificultan la multiplicación in situ y ex si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2781360"/>
            <a:ext cx="727236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e2f1f2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se 3: Divulgación y concien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3573360"/>
            <a:ext cx="6912000" cy="459720"/>
          </a:xfrm>
          <a:prstGeom prst="rect">
            <a:avLst/>
          </a:prstGeom>
          <a:gradFill rotWithShape="0">
            <a:gsLst>
              <a:gs pos="0">
                <a:srgbClr val="708688"/>
              </a:gs>
              <a:gs pos="50000">
                <a:srgbClr val="bbe0e3"/>
              </a:gs>
              <a:gs pos="100000">
                <a:srgbClr val="7086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se 4: Monitoreo y segu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917640"/>
            <a:ext cx="9144000" cy="5940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ASE 1: REFORZAMIENTO-ACT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2186" t="45871" r="62479" b="49508"/>
          <a:stretch/>
        </p:blipFill>
        <p:spPr>
          <a:xfrm>
            <a:off x="395280" y="1773360"/>
            <a:ext cx="3238560" cy="647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3"/>
          <a:srcRect l="2186" t="36122" r="62479" b="59252"/>
          <a:stretch/>
        </p:blipFill>
        <p:spPr>
          <a:xfrm>
            <a:off x="395280" y="1052640"/>
            <a:ext cx="3238560" cy="647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3708360" y="1413000"/>
            <a:ext cx="5004000" cy="703800"/>
          </a:xfrm>
          <a:prstGeom prst="rect">
            <a:avLst/>
          </a:prstGeom>
          <a:gradFill rotWithShape="0">
            <a:gsLst>
              <a:gs pos="0">
                <a:srgbClr val="bfe6b8"/>
              </a:gs>
              <a:gs pos="50000">
                <a:srgbClr val="ffffcc"/>
              </a:gs>
              <a:gs pos="100000">
                <a:srgbClr val="bfe6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TIVOS: POBLACIÓN CRÍTICA Y REVER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565360"/>
            <a:ext cx="8424720" cy="20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BJETIVO GENERAL DEL REFORZAMIENTO: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mentar el número de individuos de la población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Iris boissier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ntro de los límites de la zona LIC de Courel, en un área de un kilómetro alrededor de los individuos existentes para aumentar su resiliencia a factores externos y lleguen a ser autosostenibles a medio – largo plazo con gestión mínima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705200"/>
            <a:ext cx="8353440" cy="1608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JETIVOS CUANTIFICABLES DEL REFORZAMIENTO: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Reforzar el núcleo poblacional de Courel de un mínimo de 510 ejempla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Obtener regeneración natural por vía sexual y asexual en el sexto año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ASE 1: REFORZAMIENTO-ACT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5373360"/>
            <a:ext cx="8893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510 individuos en tres añ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rantizar la capacidad de restablecer la población con el rango ecológico natural del taxón y sus propias características genética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907920"/>
          <a:ext cx="9144000" cy="46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6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sibles Causas a estudi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acción floración y factores abió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acción floración y poliniz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sión endogá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tencia de semillas y bulb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os aspectos de su fe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1477080"/>
          </a:xfrm>
          <a:prstGeom prst="rect">
            <a:avLst/>
          </a:prstGeom>
          <a:gradFill rotWithShape="0">
            <a:gsLst>
              <a:gs pos="0">
                <a:srgbClr val="e1fda1"/>
              </a:gs>
              <a:gs pos="50000">
                <a:srgbClr val="ffffcc"/>
              </a:gs>
              <a:gs pos="100000">
                <a:srgbClr val="e1fd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SE 2: INVESTIGACIÓN SOBRE LAS CAUSAS QUE DIFICULTAN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ULTIPLICACIÓN IN VIVO E IN VI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5445000"/>
            <a:ext cx="7129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STIÓN ADAPT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917640"/>
            <a:ext cx="9144000" cy="5940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ASE 4: MONITOREO Y SEGU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NITOREO DEL REFORZA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ENSOS ANUALES:Modelización  pobl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rcado de bulbos introducidos. </a:t>
            </a:r>
            <a:br>
              <a:rPr sz="20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mento 1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mergencia de las plantas, que ocurrirá al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io de la primavera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mento 2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loración, que ocurrirá en verano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mento 3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ructificación, finales del verano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BJETIVOS ALCANZADOS/ CAUSAS DEL FRAC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GESTIÓN ADAPT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STRIBUCIÓN ESPA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689120"/>
            <a:ext cx="7956720" cy="5168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7956720" y="3860640"/>
            <a:ext cx="1187280" cy="1376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7956720" y="5229360"/>
            <a:ext cx="1187280" cy="765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7956720" y="2565360"/>
            <a:ext cx="1187280" cy="1325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7956720" y="1700280"/>
            <a:ext cx="1187280" cy="936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40464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5:50:26Z</dcterms:created>
  <dc:creator>-</dc:creator>
  <dc:description/>
  <dc:language>en-US</dc:language>
  <cp:lastModifiedBy>-</cp:lastModifiedBy>
  <dcterms:modified xsi:type="dcterms:W3CDTF">2010-06-16T13:28:04Z</dcterms:modified>
  <cp:revision>13</cp:revision>
  <dc:subject/>
  <dc:title>Diapositiva 1</dc:title>
</cp:coreProperties>
</file>